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pct" ContentType="image/x-pict"/>
  <Override PartName="/ppt/media/image8.pct" ContentType="image/x-pict"/>
  <Override PartName="/ppt/media/image10.png" ContentType="image/png"/>
  <Override PartName="/ppt/media/image7.pct" ContentType="image/x-pict"/>
  <Override PartName="/ppt/media/image6.pct" ContentType="image/x-pict"/>
  <Override PartName="/ppt/media/image13.png" ContentType="image/png"/>
  <Override PartName="/ppt/media/image5.pct" ContentType="image/x-pict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29.png" ContentType="image/png"/>
  <Override PartName="/ppt/media/image1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ct" ContentType="image/x-pict"/>
  <Override PartName="/ppt/media/image28.png" ContentType="image/png"/>
  <Override PartName="/ppt/media/image15.png" ContentType="image/png"/>
  <Override PartName="/ppt/media/image14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9A15-5079-409B-81C8-BAA4FC73E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perties of an organic molecule are not solely determined by the carbon skeleton but also by the arrangements of atoms attached to it. Certain groupings of atoms call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found to reoccur time and time again in many different molecules, often having important roles in the reactions the molecule can participate 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 the male and female hormones, testosterone and estradiol, differ from each other only by the attachment of different functional groups to an identical carbon skele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we study carbon -- is it the most abundant element in living organis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&amp; O most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is the next most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hemistry = organic 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it a foundational at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akes it so 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be a good building block if you only form 1 or 2 b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sugars: 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an be arranged in different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ala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ext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formula but different structurally &amp; therefore different functionally. Molecular shape determines biological proper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Isomers may be ineffective as medi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5885-6A7D-4669-9819-ED2388A5AF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27E7-FB2D-4F8B-B837-7862AF8D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A5A4-E2DC-412C-AA2D-38379054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C0DC-F92A-44E9-B4C1-7F58CE3717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5245-F887-4E69-94B9-AC18A5DE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E750-6AEA-4272-8131-423D409F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7FFE-2B56-46D6-9E9F-B2D8D832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F065-FCD0-43F0-87E2-ABD098A3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1847-319B-4453-882C-09786E23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900D-FCEB-4DFB-BE4F-6CDC1EA3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0480-503E-4749-9CA2-5F199E91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3953-00C4-4418-A84A-1F817AAB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D675-8E00-4A06-BD58-C5EFA3F723DA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3-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3-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ct"/><Relationship Id="rId4" Type="http://schemas.openxmlformats.org/officeDocument/2006/relationships/package" Target="../embeddings/oleObject2.docx"/><Relationship Id="rId5" Type="http://schemas.openxmlformats.org/officeDocument/2006/relationships/image" Target="../media/image7.pct"/><Relationship Id="rId6" Type="http://schemas.openxmlformats.org/officeDocument/2006/relationships/image" Target="../media/image8.pct"/><Relationship Id="rId7" Type="http://schemas.openxmlformats.org/officeDocument/2006/relationships/image" Target="../media/image9.pct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4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Chemistry of Carb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7000" t="13585" r="27000" b="13585"/>
          <a:stretch/>
        </p:blipFill>
        <p:spPr>
          <a:xfrm>
            <a:off x="6248520" y="533520"/>
            <a:ext cx="2655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ometric iso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lecules differ in arrangement around C=C double bon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ame covalent partnership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30236" r="0" b="48838"/>
          <a:stretch/>
        </p:blipFill>
        <p:spPr>
          <a:xfrm>
            <a:off x="1981080" y="3886200"/>
            <a:ext cx="5297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antiomer (stereo) iso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lecules which are mirror images of each oth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 bonded to 4 different atoms or group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ssymetric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eft-handed &amp; right-handed vers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” versions are biologically activ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51093" r="13692" b="4724"/>
          <a:stretch/>
        </p:blipFill>
        <p:spPr>
          <a:xfrm>
            <a:off x="5181480" y="4237200"/>
            <a:ext cx="38862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248520" y="1908000"/>
            <a:ext cx="2819160" cy="2283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orm affects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al differences create important functional significanc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mino acid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alani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-alanine used in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t not D-alani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dici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-version activ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t not D-vers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metimes with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gic results…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867280" y="4417920"/>
            <a:ext cx="32004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orm affects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alidomid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escribed to pregnant women in 50’s &amp; 60’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duced morning sickness, but…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ereoisomer caused severe birth defec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38680" y="3962520"/>
            <a:ext cx="2730600" cy="2711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42166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versity of molecu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ubstitute other atoms or groups around the 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thane vs. ethan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 replaced by an hydroxyl group (–OH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npolar vs. pola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as vs. liqui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iological effects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34120" y="4799160"/>
          <a:ext cx="1766880" cy="114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99160"/>
                    <a:ext cx="176688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5451840" y="6049080"/>
            <a:ext cx="117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ethanol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666880" y="4952880"/>
          <a:ext cx="1219320" cy="914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4952880"/>
                    <a:ext cx="1219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593800" y="6018840"/>
            <a:ext cx="10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ethan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unctional Group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27000" t="13585" r="27000" b="13585"/>
          <a:stretch/>
        </p:blipFill>
        <p:spPr>
          <a:xfrm>
            <a:off x="6248520" y="533520"/>
            <a:ext cx="2655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unctional group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mponents of organic molecules that are involved in chemical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ive organic molecules distinctive propert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: male &amp; female hormones…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iva la difference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Basic structure of male &amp; female hormones is </a:t>
            </a:r>
            <a:r>
              <a:rPr b="1" lang="en-US" sz="2800" spc="-1" strike="noStrike" u="sng">
                <a:solidFill>
                  <a:srgbClr val="0f116a"/>
                </a:solidFill>
                <a:uFillTx/>
                <a:latin typeface="Arial"/>
              </a:rPr>
              <a:t>identical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dentical C skeleton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tachment of different functional group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nteract with different targets in the bod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92"/>
          <a:stretch/>
        </p:blipFill>
        <p:spPr>
          <a:xfrm>
            <a:off x="914400" y="3805200"/>
            <a:ext cx="74674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ypes of functional group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6 functional groups most important to chemistry of lif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xyl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Zapf Dingbats"/>
                <a:ea typeface="Zapf Dingbats"/>
              </a:rPr>
              <a:t>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amin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rbonyl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Zapf Dingbats"/>
                <a:ea typeface="Zapf Dingbats"/>
              </a:rPr>
              <a:t>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sulfhydry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rboxyl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Zapf Dingbats"/>
                <a:ea typeface="Zapf Dingbats"/>
              </a:rPr>
              <a:t>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phosph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ffect reactiv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philic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crease solubility in wat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xy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–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rganic compounds with OH =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alcohol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ames typically end in </a:t>
            </a: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-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thano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8229600" cy="2093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0" t="0" r="65856" b="47389"/>
          <a:stretch/>
        </p:blipFill>
        <p:spPr>
          <a:xfrm>
            <a:off x="7162920" y="431640"/>
            <a:ext cx="142236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study Carbon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living things are made of cell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ell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~72%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~3% salts (Na, Cl, K…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~25% carbon compoun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rbohydrat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rotein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ucleic aci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0" r="56577" b="66794"/>
          <a:stretch/>
        </p:blipFill>
        <p:spPr>
          <a:xfrm>
            <a:off x="7162920" y="372960"/>
            <a:ext cx="1930320" cy="14558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rbony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=O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double bonded to 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f C=O at end molecule =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aldelhyd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f C=O in middle of molecule =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keto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634356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0" t="0" r="53421" b="0"/>
          <a:stretch/>
        </p:blipFill>
        <p:spPr>
          <a:xfrm>
            <a:off x="6934320" y="380880"/>
            <a:ext cx="1993680" cy="19432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rboxyl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–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OH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 double bonded to O &amp; single bonded to OH grou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mpounds with COOH =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aci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atty aci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mino aci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0" t="0" r="0" b="17459"/>
          <a:stretch/>
        </p:blipFill>
        <p:spPr>
          <a:xfrm>
            <a:off x="533520" y="4343400"/>
            <a:ext cx="82296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64098" b="0"/>
          <a:stretch/>
        </p:blipFill>
        <p:spPr>
          <a:xfrm>
            <a:off x="7391520" y="419040"/>
            <a:ext cx="1536480" cy="19432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mino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-N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 attached to 2 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mpounds with N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ami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mnio acid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acts as base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mmonia picks up H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from solu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0" t="0" r="0" b="26182"/>
          <a:stretch/>
        </p:blipFill>
        <p:spPr>
          <a:xfrm>
            <a:off x="838080" y="4495680"/>
            <a:ext cx="7848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lfhydryl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–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 bonded to 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mpounds with SH =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hiol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H groups stabilize the structure of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4214880"/>
            <a:ext cx="7924680" cy="1805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0" t="0" r="68519" b="0"/>
          <a:stretch/>
        </p:blipFill>
        <p:spPr>
          <a:xfrm>
            <a:off x="7543800" y="457200"/>
            <a:ext cx="1155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0" t="3760" r="65904" b="0"/>
          <a:stretch/>
        </p:blipFill>
        <p:spPr>
          <a:xfrm>
            <a:off x="6819840" y="395280"/>
            <a:ext cx="2247840" cy="23479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at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–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4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 bound to 4 O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nects to C through an O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are anions with 2 negative charg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unction of P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is to transfer energy between organic molecules (ATP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76240" y="4419720"/>
            <a:ext cx="73915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study Functional Group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se are the building blocks for  biological molecul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and that comes next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27000" t="13585" r="27000" b="13585"/>
          <a:stretch/>
        </p:blipFill>
        <p:spPr>
          <a:xfrm>
            <a:off x="6248520" y="3886200"/>
            <a:ext cx="2655720" cy="2786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stry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rganic chemistry is the study of 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carbon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mpou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 atoms are versatile building block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nding propert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4 stable covalent bon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0" t="0" r="0" b="19366"/>
          <a:stretch/>
        </p:blipFill>
        <p:spPr>
          <a:xfrm>
            <a:off x="1066680" y="4724280"/>
            <a:ext cx="5207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1447920" y="1371600"/>
            <a:ext cx="6019560" cy="529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7754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mplex molecules assembled like TinkerToy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carb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mplest C molecules = hydrocarbon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mbinations of C &amp; H</a:t>
            </a: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mplest HC molecule = meth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carbon bound to 4 H atom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n-polar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t soluble in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hydrophobi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ab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very little attraction between molecu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 gas at room tempera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934320" y="2971800"/>
            <a:ext cx="19047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carbons can gro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dding C-C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raight li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tha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exane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ranchin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sohexane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in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yclohexa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83808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7010280" y="1600200"/>
          <a:ext cx="1219320" cy="914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1600200"/>
                    <a:ext cx="1219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257800" y="2895480"/>
          <a:ext cx="2895480" cy="914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2895480"/>
                    <a:ext cx="289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4267080" y="4648320"/>
            <a:ext cx="2286000" cy="1125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7238880" y="43434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775280" y="1294560"/>
            <a:ext cx="10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ethan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5800" y="3686760"/>
            <a:ext cx="114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hexan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9840" y="5866560"/>
            <a:ext cx="185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cyclohexan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7520" y="5790240"/>
            <a:ext cx="15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isohexan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83560" y="129456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methan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versity of organic molecu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4147"/>
          <a:stretch/>
        </p:blipFill>
        <p:spPr>
          <a:xfrm>
            <a:off x="304920" y="1371600"/>
            <a:ext cx="861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o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lecules with same molecular formula but different structur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chemical propert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289584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57600" y="4952880"/>
            <a:ext cx="2286000" cy="1125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095880" y="3429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uctural iso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lecules differ in structural arrangement of ato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69770"/>
          <a:stretch/>
        </p:blipFill>
        <p:spPr>
          <a:xfrm>
            <a:off x="1981080" y="3124080"/>
            <a:ext cx="52977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WD Interactive Web Development</cp:keywords>
  <dc:language>en-US</dc:language>
  <cp:lastModifiedBy>Kim Foglia</cp:lastModifiedBy>
  <cp:lastPrinted>2005-09-14T03:14:32Z</cp:lastPrinted>
  <dcterms:modified xsi:type="dcterms:W3CDTF">2005-09-14T03:23:11Z</dcterms:modified>
  <cp:revision>250</cp:revision>
  <dc:subject>Introduction to the Internet &amp; Web sites</dc:subject>
  <dc:title>Small Business Success on the Web</dc:title>
</cp:coreProperties>
</file>